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E8B-54F1-4D0B-9601-8FAA2B4B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A7B-EA91-4BC6-ADB3-D9023389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72C-DE8E-46AF-BBAA-A37E7680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902-2278-49F3-8DBB-EDA6AFCA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BD1E-ADE7-4886-A077-F92001C0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734-3A13-41DA-A911-9DB0D141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6AC-FD16-4796-BE3D-5D612048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234-DEC7-49E1-BFC7-0FED9850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0C0-6F8E-4E66-ACF7-38C0E01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3FF-1C64-4400-8DD5-8DB4DF45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822-93C5-429B-80B8-96DB2CE0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69C-9697-4F02-8F11-0B6A4A3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7DC0-14A9-4F2B-8DED-EDF49032E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105520" y="5735520"/>
            <a:ext cx="375264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Java Program Run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art Ha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W - Park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de Issue – Java Star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Java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public class Simpl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public static void main (String [] 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s 280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an auxiliary array for mer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only be as big as subarrays to be mer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large of an array degrades performance to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students work with and improve bad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2392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Parabo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 the graph to the smaller array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79132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p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al Garbage Col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nd minor garbage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is incremental garbag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 Heap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s as needed by 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-X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–Xm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mental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1964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not perfectly sm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GC creates a performance hit of about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h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ed by Mike Clancy during panel discussion at SIGCSE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Hashtable of a fixed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with different amount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ly invoke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rehash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hashing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tions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Comp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 code to nativ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Method in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re hard to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VM influences program runtimes in complex and myste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al 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1148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ustrating to obtain runtimes that you can’t ex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hashing with Large Initial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more time be dedicated to reha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24816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in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ata set is still analyzed on an ad hoc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nsistent set of instructions to give to students to get meaningful run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ndle on Java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recommend experimentation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enacity to explain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oal of algorithm analysis is to predict resources (e.g. time) that an implementation will requ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confounding infl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of CP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mplementation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on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physical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 Analysis co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the confounding influences as pedagogic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time vs. elapse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memory vs. 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va VM Presents New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control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use them at teaching a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k of 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material on Java performance with lots of practical ad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 tells why my BubbleSort code doesn’t graph to be a parab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s to Arrays.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erge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h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xperiments performed using Sun’s Java SDK 1.4.2 under Debian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s.sort(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runtimes of CS1 sorts to Arrays.sor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1814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Class Lo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loads a class only when it is first refer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 IO is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force pre-loading using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Class.forNam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0:40:28Z</dcterms:created>
  <dc:creator>Stuart Hansen</dc:creator>
  <dc:description/>
  <dc:language>en-US</dc:language>
  <cp:lastModifiedBy>Stuart Hansen</cp:lastModifiedBy>
  <dcterms:modified xsi:type="dcterms:W3CDTF">2005-02-16T22:20:59Z</dcterms:modified>
  <cp:revision>5</cp:revision>
  <dc:subject/>
  <dc:title>Interpreting Java Program Runtimes</dc:title>
</cp:coreProperties>
</file>